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2A44-9D2F-497D-BC76-0450B97AF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8CB7-D828-4152-9E2D-2A9620B5D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B9E4-21B0-4B20-8DC8-C5BC3C116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2432-EF8A-4342-A3BA-935116741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B061-E8FE-4EAA-BFF3-8CEE096EC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57BD-F865-43CC-9FD3-E9B309F45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66C6-B0FD-4EB9-880F-A8DFE5622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030D-92F3-46D1-8C97-A8988882E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01B2-8293-4B29-B169-C23D76C7D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6745-5DA2-4D7E-82E6-49EF9D271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8E54-B4A6-4393-A9B3-A4530749C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F5C7-9BB7-4F9D-88B1-55A1D960E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8072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943-E96D-4628-B8CD-4E90B0387A7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tage 2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ccessing Resources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1CAA-3903-4C52-B46A-11F5B00523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617220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Making Initial Contac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or write a letter to request an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communication, demonstrate some knowledge of the person and/or institution/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 yourself and state the reason for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specific about how long the interview will 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wish, ask if you can tape- record the intervie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2D42-60D5-4159-A5E4-6E3413698C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6172200" cy="42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Times New Roman"/>
              </a:rPr>
              <a:t>Making Initial Contac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variety of questions ready for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sure your questions are relevant to the topic you are re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open-ended, thoughtful questions that require more than one-word, Yes or No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sure the questions avoid personal b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FD28-0D4A-4ED9-BE66-EDA49E765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6172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During the Interview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the interviewee for agreeing to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the purpose of the interview and give a general comment about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asking each question and, if possible, extend answers with more questions based on the information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are unsure of a response, ask for clarification or reformulate the ques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D8A5-2ED1-4C51-B969-70DBD0BC4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838080" y="631800"/>
            <a:ext cx="7228080" cy="1219320"/>
            <a:chOff x="838080" y="631800"/>
            <a:chExt cx="7228080" cy="1219320"/>
          </a:xfrm>
        </p:grpSpPr>
        <p:sp>
          <p:nvSpPr>
            <p:cNvPr id="180" name=""/>
            <p:cNvSpPr/>
            <p:nvPr/>
          </p:nvSpPr>
          <p:spPr>
            <a:xfrm>
              <a:off x="838080" y="685800"/>
              <a:ext cx="228600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tep 1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riefly Describe Your Topic/Focus/ 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631800"/>
              <a:ext cx="5018040" cy="1219320"/>
            </a:xfrm>
            <a:prstGeom prst="roundRect">
              <a:avLst>
                <a:gd name="adj" fmla="val 16667"/>
              </a:avLst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opic/Focus/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mporary media celebrates violence in ways that encourage violent behaviour in adolescents tod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90720" y="1905120"/>
            <a:ext cx="7086600" cy="1708200"/>
            <a:chOff x="990720" y="1905120"/>
            <a:chExt cx="7086600" cy="1708200"/>
          </a:xfrm>
        </p:grpSpPr>
        <p:sp>
          <p:nvSpPr>
            <p:cNvPr id="183" name=""/>
            <p:cNvSpPr/>
            <p:nvPr/>
          </p:nvSpPr>
          <p:spPr>
            <a:xfrm>
              <a:off x="1768320" y="1905120"/>
              <a:ext cx="425520" cy="398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160" y="2070000"/>
              <a:ext cx="155916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hird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olesc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1520" y="2070000"/>
              <a:ext cx="156204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econd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2070000"/>
              <a:ext cx="155880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irst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2480" y="2986200"/>
              <a:ext cx="593640" cy="461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0760" y="2986200"/>
              <a:ext cx="591840" cy="461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2514600"/>
              <a:ext cx="1981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ep 2.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dentify the Main Conce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990720" y="3733920"/>
            <a:ext cx="7086600" cy="2666880"/>
            <a:chOff x="990720" y="3733920"/>
            <a:chExt cx="7086600" cy="2666880"/>
          </a:xfrm>
        </p:grpSpPr>
        <p:sp>
          <p:nvSpPr>
            <p:cNvPr id="191" name=""/>
            <p:cNvSpPr/>
            <p:nvPr/>
          </p:nvSpPr>
          <p:spPr>
            <a:xfrm>
              <a:off x="1766880" y="3733920"/>
              <a:ext cx="426960" cy="398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8120" y="3832200"/>
              <a:ext cx="1558800" cy="2568600"/>
            </a:xfrm>
            <a:custGeom>
              <a:avLst/>
              <a:gdLst>
                <a:gd name="textAreaLeft" fmla="*/ 75960 w 1558800"/>
                <a:gd name="textAreaRight" fmla="*/ 1482840 w 155880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89">
                  <a:moveTo>
                    <a:pt x="3600" y="0"/>
                  </a:moveTo>
                  <a:arcTo wR="3600" hR="3600" stAng="16200000" swAng="-5400000"/>
                  <a:lnTo>
                    <a:pt x="0" y="31989"/>
                  </a:lnTo>
                  <a:arcTo wR="3600" hR="3600" stAng="10800000" swAng="-5400000"/>
                  <a:lnTo>
                    <a:pt x="18000" y="35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st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deo g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41680" y="4876920"/>
              <a:ext cx="5922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1520" y="3832200"/>
              <a:ext cx="1562040" cy="2568600"/>
            </a:xfrm>
            <a:custGeom>
              <a:avLst/>
              <a:gdLst>
                <a:gd name="textAreaLeft" fmla="*/ 75960 w 1562040"/>
                <a:gd name="textAreaRight" fmla="*/ 1486080 w 156204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16">
                  <a:moveTo>
                    <a:pt x="3600" y="0"/>
                  </a:moveTo>
                  <a:arcTo wR="3600" hR="3600" stAng="16200000" swAng="-5400000"/>
                  <a:lnTo>
                    <a:pt x="0" y="31916"/>
                  </a:lnTo>
                  <a:arcTo wR="3600" hR="3600" stAng="10800000" swAng="-5400000"/>
                  <a:lnTo>
                    <a:pt x="18000" y="35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ut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75440" y="4876920"/>
              <a:ext cx="59184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3360" y="5643720"/>
              <a:ext cx="591840" cy="23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18160" y="3832200"/>
              <a:ext cx="1559160" cy="2568600"/>
            </a:xfrm>
            <a:custGeom>
              <a:avLst/>
              <a:gdLst>
                <a:gd name="textAreaLeft" fmla="*/ 75960 w 1559160"/>
                <a:gd name="textAreaRight" fmla="*/ 1483200 w 155916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81">
                  <a:moveTo>
                    <a:pt x="3600" y="0"/>
                  </a:moveTo>
                  <a:arcTo wR="3600" hR="3600" stAng="16200000" swAng="-5400000"/>
                  <a:lnTo>
                    <a:pt x="0" y="31981"/>
                  </a:lnTo>
                  <a:arcTo wR="3600" hR="3600" stAng="10800000" swAng="-5400000"/>
                  <a:lnTo>
                    <a:pt x="18000" y="355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ird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7280" y="4876920"/>
              <a:ext cx="5940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42320" y="5643720"/>
              <a:ext cx="591840" cy="23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8440" y="5637240"/>
              <a:ext cx="5922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41680" y="5481720"/>
              <a:ext cx="592200" cy="461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4960" y="5481720"/>
              <a:ext cx="592200" cy="461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4343400"/>
              <a:ext cx="1981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tep 3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Think Synonyms/ Related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808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ffective Online Searching: Using Concepts to Develop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9F1E-1A0F-4EB6-8CDE-7775828D8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3505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electing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Resources: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 Sample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Flow Chart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Topic:  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Pierre Trudeau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Focus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The Canadian </a:t>
            </a: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           Charter of Rights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984920" y="146160"/>
            <a:ext cx="2307960" cy="546120"/>
            <a:chOff x="4984920" y="146160"/>
            <a:chExt cx="2307960" cy="546120"/>
          </a:xfrm>
        </p:grpSpPr>
        <p:sp>
          <p:nvSpPr>
            <p:cNvPr id="207" name=""/>
            <p:cNvSpPr/>
            <p:nvPr/>
          </p:nvSpPr>
          <p:spPr>
            <a:xfrm>
              <a:off x="4984920" y="146160"/>
              <a:ext cx="2307960" cy="546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57640" y="155520"/>
              <a:ext cx="2163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Stag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: Cha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984920" y="692280"/>
            <a:ext cx="2307960" cy="1046160"/>
            <a:chOff x="4984920" y="692280"/>
            <a:chExt cx="2307960" cy="1046160"/>
          </a:xfrm>
        </p:grpSpPr>
        <p:sp>
          <p:nvSpPr>
            <p:cNvPr id="210" name=""/>
            <p:cNvSpPr/>
            <p:nvPr/>
          </p:nvSpPr>
          <p:spPr>
            <a:xfrm>
              <a:off x="4984920" y="1004760"/>
              <a:ext cx="2307960" cy="7336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57640" y="984240"/>
              <a:ext cx="2163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 an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line Canadian Encyclop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40520" y="6922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984920" y="1733400"/>
            <a:ext cx="2307960" cy="1190880"/>
            <a:chOff x="4984920" y="1733400"/>
            <a:chExt cx="2307960" cy="1190880"/>
          </a:xfrm>
        </p:grpSpPr>
        <p:sp>
          <p:nvSpPr>
            <p:cNvPr id="214" name=""/>
            <p:cNvSpPr/>
            <p:nvPr/>
          </p:nvSpPr>
          <p:spPr>
            <a:xfrm>
              <a:off x="4984920" y="2041560"/>
              <a:ext cx="2307960" cy="87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57640" y="2023920"/>
              <a:ext cx="2163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Prim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rter of Righ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’s Memoir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0520" y="173340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92840" y="2913120"/>
            <a:ext cx="2309760" cy="1219320"/>
            <a:chOff x="4992840" y="2913120"/>
            <a:chExt cx="2309760" cy="1219320"/>
          </a:xfrm>
        </p:grpSpPr>
        <p:sp>
          <p:nvSpPr>
            <p:cNvPr id="218" name=""/>
            <p:cNvSpPr/>
            <p:nvPr/>
          </p:nvSpPr>
          <p:spPr>
            <a:xfrm>
              <a:off x="4992840" y="3244680"/>
              <a:ext cx="2309760" cy="8748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1560" y="3220920"/>
              <a:ext cx="216540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Second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 Biograph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cLean’s art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0520" y="29131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06960" y="4103640"/>
            <a:ext cx="2021040" cy="1558800"/>
            <a:chOff x="5106960" y="4103640"/>
            <a:chExt cx="2021040" cy="1558800"/>
          </a:xfrm>
        </p:grpSpPr>
        <p:sp>
          <p:nvSpPr>
            <p:cNvPr id="222" name=""/>
            <p:cNvSpPr/>
            <p:nvPr/>
          </p:nvSpPr>
          <p:spPr>
            <a:xfrm>
              <a:off x="5106960" y="4387680"/>
              <a:ext cx="2021040" cy="1274760"/>
            </a:xfrm>
            <a:prstGeom prst="flowChartDecisi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21320" y="4775040"/>
              <a:ext cx="115416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440" y="4103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541680" y="5618160"/>
            <a:ext cx="3751200" cy="1103400"/>
            <a:chOff x="3541680" y="5618160"/>
            <a:chExt cx="3751200" cy="1103400"/>
          </a:xfrm>
        </p:grpSpPr>
        <p:grpSp>
          <p:nvGrpSpPr>
            <p:cNvPr id="226" name=""/>
            <p:cNvGrpSpPr/>
            <p:nvPr/>
          </p:nvGrpSpPr>
          <p:grpSpPr>
            <a:xfrm>
              <a:off x="3541680" y="5618160"/>
              <a:ext cx="3751200" cy="1103400"/>
              <a:chOff x="3541680" y="5618160"/>
              <a:chExt cx="3751200" cy="1103400"/>
            </a:xfrm>
          </p:grpSpPr>
          <p:sp>
            <p:nvSpPr>
              <p:cNvPr id="227" name=""/>
              <p:cNvSpPr/>
              <p:nvPr/>
            </p:nvSpPr>
            <p:spPr>
              <a:xfrm>
                <a:off x="6097680" y="56786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84560" y="6087960"/>
                <a:ext cx="230832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57640" y="6062760"/>
                <a:ext cx="21639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te Stag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udeau: Char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41680" y="561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41680" y="6380280"/>
                <a:ext cx="14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73640" y="5643720"/>
              <a:ext cx="6685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66880" y="4570560"/>
            <a:ext cx="2563920" cy="1023840"/>
            <a:chOff x="2666880" y="4570560"/>
            <a:chExt cx="2563920" cy="1023840"/>
          </a:xfrm>
        </p:grpSpPr>
        <p:sp>
          <p:nvSpPr>
            <p:cNvPr id="234" name=""/>
            <p:cNvSpPr/>
            <p:nvPr/>
          </p:nvSpPr>
          <p:spPr>
            <a:xfrm>
              <a:off x="2797200" y="4579920"/>
              <a:ext cx="1887480" cy="10144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570560"/>
              <a:ext cx="21654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d more det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BC Archives web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60920" y="50259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11760" y="5165640"/>
              <a:ext cx="41904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760" y="636912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Toronto District School Board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B79B-7252-42B5-BCE9-D51222981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electing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Resources: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 Sample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Flow Chart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Topic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Focus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235400" y="146160"/>
            <a:ext cx="2308320" cy="546120"/>
            <a:chOff x="4235400" y="146160"/>
            <a:chExt cx="2308320" cy="546120"/>
          </a:xfrm>
        </p:grpSpPr>
        <p:sp>
          <p:nvSpPr>
            <p:cNvPr id="241" name=""/>
            <p:cNvSpPr/>
            <p:nvPr/>
          </p:nvSpPr>
          <p:spPr>
            <a:xfrm>
              <a:off x="4235400" y="146160"/>
              <a:ext cx="2308320" cy="546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08480" y="155520"/>
              <a:ext cx="21639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Stag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235400" y="692280"/>
            <a:ext cx="2308320" cy="1046160"/>
            <a:chOff x="4235400" y="692280"/>
            <a:chExt cx="2308320" cy="1046160"/>
          </a:xfrm>
        </p:grpSpPr>
        <p:sp>
          <p:nvSpPr>
            <p:cNvPr id="244" name=""/>
            <p:cNvSpPr/>
            <p:nvPr/>
          </p:nvSpPr>
          <p:spPr>
            <a:xfrm>
              <a:off x="4235400" y="1004760"/>
              <a:ext cx="2308320" cy="73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8480" y="984240"/>
              <a:ext cx="216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 an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1360" y="6922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235400" y="1733400"/>
            <a:ext cx="2308320" cy="1190880"/>
            <a:chOff x="4235400" y="1733400"/>
            <a:chExt cx="2308320" cy="1190880"/>
          </a:xfrm>
        </p:grpSpPr>
        <p:sp>
          <p:nvSpPr>
            <p:cNvPr id="248" name=""/>
            <p:cNvSpPr/>
            <p:nvPr/>
          </p:nvSpPr>
          <p:spPr>
            <a:xfrm>
              <a:off x="4235400" y="2041560"/>
              <a:ext cx="2308320" cy="87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08480" y="2023920"/>
              <a:ext cx="216396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Prim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1360" y="173340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43320" y="2913120"/>
            <a:ext cx="2309760" cy="1219320"/>
            <a:chOff x="4243320" y="2913120"/>
            <a:chExt cx="2309760" cy="1219320"/>
          </a:xfrm>
        </p:grpSpPr>
        <p:sp>
          <p:nvSpPr>
            <p:cNvPr id="252" name=""/>
            <p:cNvSpPr/>
            <p:nvPr/>
          </p:nvSpPr>
          <p:spPr>
            <a:xfrm>
              <a:off x="4243320" y="3244680"/>
              <a:ext cx="2309760" cy="8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2040" y="3220920"/>
              <a:ext cx="216540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Second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1000" y="29131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357800" y="4103640"/>
            <a:ext cx="2020680" cy="1558800"/>
            <a:chOff x="4357800" y="4103640"/>
            <a:chExt cx="2020680" cy="1558800"/>
          </a:xfrm>
        </p:grpSpPr>
        <p:sp>
          <p:nvSpPr>
            <p:cNvPr id="256" name=""/>
            <p:cNvSpPr/>
            <p:nvPr/>
          </p:nvSpPr>
          <p:spPr>
            <a:xfrm>
              <a:off x="4357800" y="4387680"/>
              <a:ext cx="2020680" cy="12747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71800" y="4775040"/>
              <a:ext cx="115380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44920" y="4103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92520" y="5618160"/>
            <a:ext cx="3751200" cy="1103400"/>
            <a:chOff x="2792520" y="5618160"/>
            <a:chExt cx="3751200" cy="1103400"/>
          </a:xfrm>
        </p:grpSpPr>
        <p:grpSp>
          <p:nvGrpSpPr>
            <p:cNvPr id="260" name=""/>
            <p:cNvGrpSpPr/>
            <p:nvPr/>
          </p:nvGrpSpPr>
          <p:grpSpPr>
            <a:xfrm>
              <a:off x="2792520" y="5618160"/>
              <a:ext cx="3751200" cy="1103400"/>
              <a:chOff x="2792520" y="5618160"/>
              <a:chExt cx="3751200" cy="1103400"/>
            </a:xfrm>
          </p:grpSpPr>
          <p:sp>
            <p:nvSpPr>
              <p:cNvPr id="261" name=""/>
              <p:cNvSpPr/>
              <p:nvPr/>
            </p:nvSpPr>
            <p:spPr>
              <a:xfrm>
                <a:off x="5348520" y="56786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35400" y="6087960"/>
                <a:ext cx="2308320" cy="633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08480" y="6062760"/>
                <a:ext cx="21639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te Stag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92520" y="561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92520" y="6380280"/>
                <a:ext cx="14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524480" y="5643720"/>
              <a:ext cx="668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17720" y="4570560"/>
            <a:ext cx="2563920" cy="1023840"/>
            <a:chOff x="1917720" y="4570560"/>
            <a:chExt cx="2563920" cy="1023840"/>
          </a:xfrm>
        </p:grpSpPr>
        <p:sp>
          <p:nvSpPr>
            <p:cNvPr id="268" name=""/>
            <p:cNvSpPr/>
            <p:nvPr/>
          </p:nvSpPr>
          <p:spPr>
            <a:xfrm>
              <a:off x="2048040" y="4579920"/>
              <a:ext cx="1887480" cy="10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17720" y="4570560"/>
              <a:ext cx="21654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d more det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11760" y="50259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2600" y="5165640"/>
              <a:ext cx="419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81680" y="685800"/>
            <a:ext cx="22100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n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ed Re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1905120"/>
            <a:ext cx="236232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200400"/>
            <a:ext cx="22860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 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ction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0760" y="636912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Toronto District School Board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3489-0B7B-4A1E-90F3-70A07FBD7E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coring Chart: Stage 2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06668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ad/viewed a variety of print, electronic, and media resources in my school librar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the School Library Website to search for and find appropriate online resources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used search directories to find appropriat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search engines to find appropri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used skimmed and scanned texts for appropriate inform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selected the best resources for my assign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ontinued to plan my work and track my decis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collaborated with teacher-librarian, teachers, and peers to check my ideas so f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corded the sources of information that I have selec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organized my resources effectiv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F82E-AB48-4EB4-8C26-3816A3B7F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4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1916280"/>
            <a:ext cx="7940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e a variety of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the purposes of different resourc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a variety of resources: print, electronic, and hu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give reasons for the resources I have chosen to u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computer to access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explored the School Library Website and relevant electronic datab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why and how to use directories, search engines, and metasearch eng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eywords string together for best search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s of searches give me the best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CF27-D795-4ED8-B76B-3EC783D31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5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1916280"/>
            <a:ext cx="7940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started to create my list of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record citation details of the resources, including author, title, source, and page numb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her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saved or printed lists of resources, articles, or abstra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collected the most appropriate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D125-2495-499D-B728-AAF3DF4A9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6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5800" y="114300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191628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findings and id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discuss the selection of resources with my peers and teacher/teacher-librari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ask my peers and teacher/teacher-librarian what other resources I might expl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resources and research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had a conference with my teacher or teacher-librarian to explain my progress and choice of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7195-5CAE-4E06-AA42-7854B5268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7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191628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 how to select general and specific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how to begin with general resources and then move to specific 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d most suitable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can and skim resources to get an overview of th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elect primary and/or secondary sources for my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find the best resources for my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2231-D738-4F42-85E6-80A5FDA91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encyclopedia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lier Encyclop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-specific encyclopedia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s and Peo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ctionaries and thesa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manacs and year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lases and 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-Fiction Boo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ction Boo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2895480" cy="13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99C4-5363-43ED-8218-43CE6EC7CC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5791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icals and Newspap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nt periodical 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nt newspaper 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periodical databases  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BSCO, Electric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newspaper databases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rtual News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ed online databases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gill on Lit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188424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D37F-E7E1-4C5C-BCE5-8F9955477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5791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and Med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and World Wide Web (School Library Websit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deos and DVDs (see TDSB MediaNet video catalog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s and audio t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 and radio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PMSE001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057400" cy="20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5BCE-4928-4DF3-B00A-23F1AC8591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, friends, and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, college, and university libr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services, director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 ag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nd industry sources (e.g., travel ag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directories (white, blue, and yellow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 galleries and museu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 and experts (for presentations and interview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WMN001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1981080" cy="17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7E29-B3D8-4A4A-B576-8E9F075F3E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57:46Z</dcterms:created>
  <dc:creator>037763</dc:creator>
  <dc:description/>
  <dc:language>en-US</dc:language>
  <cp:lastModifiedBy>TDSB</cp:lastModifiedBy>
  <dcterms:modified xsi:type="dcterms:W3CDTF">2007-10-19T13:02:26Z</dcterms:modified>
  <cp:revision>21</cp:revision>
  <dc:subject/>
  <dc:title>The Power of Research</dc:title>
</cp:coreProperties>
</file>